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10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40B-A0A0-4EAB-ACAA-CB515F076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004-8786-4974-8F3A-A85F59180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ichardbowles.tripod.com/chemistry/balanc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093-A6DC-456E-98EE-01BB0DE7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13F-2ECE-477D-95B8-40AD4BA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4A2-468A-4BE8-8B13-8B86B691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0A8-40F9-4877-92B4-2189E896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C41-8240-469A-A181-B002401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2D5-AE0E-4425-8909-BADFEC3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357-0AF7-4AE2-921F-2070CE4D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26F-4157-4866-A485-4AA64DE9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C30-4E10-43E7-B216-1D55854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459-7D8F-4E4C-9A6D-DEC6C68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81A-EDC1-4BF1-A10E-A7C633E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7CA-3272-4986-B0DF-62C59BB3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621-A8DF-482B-A509-598F161F0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581120" y="723960"/>
            <a:ext cx="6343560" cy="491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alancing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quations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1027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76176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1033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2541600" cy="25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8108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320" y="609480"/>
            <a:ext cx="899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0504d"/>
                </a:solidFill>
                <a:latin typeface="Calibri"/>
              </a:rPr>
              <a:t>In all chemical reactions…you must remember the Law of Conservation of Ma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w of Conservation of Mas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48320" y="16002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Calibri"/>
              </a:rPr>
              <a:t>Mass can not be </a:t>
            </a:r>
            <a:br>
              <a:rPr sz="2800"/>
            </a:br>
            <a:r>
              <a:rPr b="1" lang="en-US" sz="2800" spc="-1" strike="noStrike">
                <a:solidFill>
                  <a:srgbClr val="669900"/>
                </a:solidFill>
                <a:latin typeface="Calibri"/>
              </a:rPr>
              <a:t>created or destr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89548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Rules of balanced equa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257800" y="3505320"/>
            <a:ext cx="4191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the number of atoms </a:t>
            </a:r>
            <a:br>
              <a:rPr sz="3000"/>
            </a:b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for each element in the reactant(s) and product(s) </a:t>
            </a: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will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 be the same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0" y="350532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1) </a:t>
            </a:r>
            <a:r>
              <a:rPr b="0" i="1" lang="en-US" sz="3000" spc="-1" strike="noStrike" u="sng">
                <a:solidFill>
                  <a:srgbClr val="9900cc"/>
                </a:solidFill>
                <a:uFillTx/>
                <a:latin typeface="Calibri"/>
              </a:rPr>
              <a:t>before</a:t>
            </a: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 a chemical reaction takes plac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76320" y="4724280"/>
            <a:ext cx="426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2) </a:t>
            </a:r>
            <a:r>
              <a:rPr b="0" i="1" lang="en-US" sz="3000" spc="-1" strike="noStrike" u="sng">
                <a:solidFill>
                  <a:srgbClr val="9900cc"/>
                </a:solidFill>
                <a:uFillTx/>
                <a:latin typeface="Calibri"/>
              </a:rPr>
              <a:t>after</a:t>
            </a: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 a chemical reaction takes plac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76320" y="615636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3) </a:t>
            </a:r>
            <a:r>
              <a:rPr b="0" i="1" lang="en-US" sz="3000" spc="-1" strike="noStrike" u="sng">
                <a:solidFill>
                  <a:srgbClr val="9900cc"/>
                </a:solidFill>
                <a:uFillTx/>
                <a:latin typeface="Calibri"/>
              </a:rPr>
              <a:t>NO</a:t>
            </a:r>
            <a:r>
              <a:rPr b="0" lang="en-US" sz="3000" spc="-1" strike="noStrike">
                <a:solidFill>
                  <a:srgbClr val="9900cc"/>
                </a:solidFill>
                <a:latin typeface="Calibri"/>
              </a:rPr>
              <a:t> atoms are gained or lost during a re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038480" y="3505320"/>
            <a:ext cx="1143000" cy="2361960"/>
          </a:xfrm>
          <a:custGeom>
            <a:avLst/>
            <a:gdLst>
              <a:gd name="textAreaLeft" fmla="*/ 0 w 1143000"/>
              <a:gd name="textAreaRight" fmla="*/ 412560 w 1143000"/>
              <a:gd name="textAreaTop" fmla="*/ 41760 h 2361960"/>
              <a:gd name="textAreaBottom" fmla="*/ 23202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4"/>
                  <a:pt x="10800" y="1227"/>
                </a:cubicBezTo>
                <a:lnTo>
                  <a:pt x="10800" y="9573"/>
                </a:lnTo>
                <a:cubicBezTo>
                  <a:pt x="10800" y="10187"/>
                  <a:pt x="16200" y="10800"/>
                  <a:pt x="21600" y="10800"/>
                </a:cubicBezTo>
                <a:cubicBezTo>
                  <a:pt x="16200" y="10800"/>
                  <a:pt x="10800" y="11414"/>
                  <a:pt x="10800" y="12027"/>
                </a:cubicBezTo>
                <a:lnTo>
                  <a:pt x="10800" y="20373"/>
                </a:lnTo>
                <a:cubicBezTo>
                  <a:pt x="10800" y="2098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90512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95280" y="1812960"/>
            <a:ext cx="426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aO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65760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181480" y="1812960"/>
            <a:ext cx="403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2971800" y="6094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LREADY BALANCED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2820960"/>
          <a:ext cx="8381880" cy="305424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  <a:gridCol w="16765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od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xyge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hydroge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b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90512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45396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157320" y="1920960"/>
            <a:ext cx="10053000" cy="426960"/>
            <a:chOff x="157320" y="1920960"/>
            <a:chExt cx="10053000" cy="426960"/>
          </a:xfrm>
        </p:grpSpPr>
        <p:sp>
          <p:nvSpPr>
            <p:cNvPr id="70" name="Rectangle 4"/>
            <p:cNvSpPr/>
            <p:nvPr/>
          </p:nvSpPr>
          <p:spPr>
            <a:xfrm>
              <a:off x="157320" y="1920960"/>
              <a:ext cx="1234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eft side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392120" y="1920960"/>
              <a:ext cx="2901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4294080" y="1920960"/>
              <a:ext cx="91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5206680" y="1920960"/>
              <a:ext cx="1388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Right side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6595920" y="1920960"/>
              <a:ext cx="3614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6" descr="http://richardbowles.tripod.com/chemistry/al_atom.gif"/>
          <p:cNvPicPr/>
          <p:nvPr/>
        </p:nvPicPr>
        <p:blipFill>
          <a:blip r:embed="rId1"/>
          <a:stretch/>
        </p:blipFill>
        <p:spPr>
          <a:xfrm>
            <a:off x="1074600" y="1800360"/>
            <a:ext cx="516240" cy="44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://richardbowles.tripod.com/chemistry/o_atom.gif"/>
          <p:cNvPicPr/>
          <p:nvPr/>
        </p:nvPicPr>
        <p:blipFill>
          <a:blip r:embed="rId2"/>
          <a:stretch/>
        </p:blipFill>
        <p:spPr>
          <a:xfrm>
            <a:off x="2087640" y="1800360"/>
            <a:ext cx="515880" cy="44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richardbowles.tripod.com/chemistry/o_atom.gif"/>
          <p:cNvPicPr/>
          <p:nvPr/>
        </p:nvPicPr>
        <p:blipFill>
          <a:blip r:embed="rId3"/>
          <a:stretch/>
        </p:blipFill>
        <p:spPr>
          <a:xfrm>
            <a:off x="2608200" y="1800360"/>
            <a:ext cx="515880" cy="44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richardbowles.tripod.com/chemistry/al_atom.gif"/>
          <p:cNvPicPr/>
          <p:nvPr/>
        </p:nvPicPr>
        <p:blipFill>
          <a:blip r:embed="rId4"/>
          <a:stretch/>
        </p:blipFill>
        <p:spPr>
          <a:xfrm>
            <a:off x="6278400" y="1841400"/>
            <a:ext cx="516240" cy="4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http://richardbowles.tripod.com/chemistry/al_atom.gif"/>
          <p:cNvPicPr/>
          <p:nvPr/>
        </p:nvPicPr>
        <p:blipFill>
          <a:blip r:embed="rId5"/>
          <a:stretch/>
        </p:blipFill>
        <p:spPr>
          <a:xfrm>
            <a:off x="6799320" y="1841400"/>
            <a:ext cx="515880" cy="44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ttp://richardbowles.tripod.com/chemistry/o_atom.gif"/>
          <p:cNvPicPr/>
          <p:nvPr/>
        </p:nvPicPr>
        <p:blipFill>
          <a:blip r:embed="rId6"/>
          <a:stretch/>
        </p:blipFill>
        <p:spPr>
          <a:xfrm>
            <a:off x="7319880" y="1800360"/>
            <a:ext cx="515880" cy="444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http://richardbowles.tripod.com/chemistry/o_atom.gif"/>
          <p:cNvPicPr/>
          <p:nvPr/>
        </p:nvPicPr>
        <p:blipFill>
          <a:blip r:embed="rId7"/>
          <a:stretch/>
        </p:blipFill>
        <p:spPr>
          <a:xfrm>
            <a:off x="7840800" y="1800360"/>
            <a:ext cx="515880" cy="44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ttp://richardbowles.tripod.com/chemistry/o_atom.gif"/>
          <p:cNvPicPr/>
          <p:nvPr/>
        </p:nvPicPr>
        <p:blipFill>
          <a:blip r:embed="rId8"/>
          <a:stretch/>
        </p:blipFill>
        <p:spPr>
          <a:xfrm>
            <a:off x="8361360" y="1800360"/>
            <a:ext cx="515880" cy="4442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733920" y="838080"/>
            <a:ext cx="3733560" cy="63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 + 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288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76320" y="3200400"/>
            <a:ext cx="4038480" cy="520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aluminum   +  2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1600200" y="1676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3505320" y="20574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4419720" y="3200400"/>
            <a:ext cx="4647960" cy="180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aluminum  +  3 oxygen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roduce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1828800" y="228600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7315200" y="228600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ordArt 42"/>
          <p:cNvSpPr txBox="1"/>
          <p:nvPr/>
        </p:nvSpPr>
        <p:spPr>
          <a:xfrm>
            <a:off x="533520" y="4876920"/>
            <a:ext cx="818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6c0a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... is the equation equal on both sides?</a:t>
            </a:r>
            <a:endParaRPr b="0" lang="en-US" sz="1800" spc="1" strike="noStrike">
              <a:ln w="0">
                <a:noFill/>
              </a:ln>
              <a:solidFill>
                <a:srgbClr val="e46c0a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609480" y="5943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…both sides are not eve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0512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45396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787480" y="2403360"/>
            <a:ext cx="346104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 + 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richardbowles.tripod.com/chemistry/2.gif"/>
          <p:cNvPicPr/>
          <p:nvPr/>
        </p:nvPicPr>
        <p:blipFill>
          <a:blip r:embed="rId1"/>
          <a:stretch/>
        </p:blipFill>
        <p:spPr>
          <a:xfrm>
            <a:off x="2967120" y="2449440"/>
            <a:ext cx="388800" cy="77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richardbowles.tripod.com/chemistry/al_atom.gif"/>
          <p:cNvPicPr/>
          <p:nvPr/>
        </p:nvPicPr>
        <p:blipFill>
          <a:blip r:embed="rId2"/>
          <a:stretch/>
        </p:blipFill>
        <p:spPr>
          <a:xfrm>
            <a:off x="138600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richardbowles.tripod.com/chemistry/al_atom.gif"/>
          <p:cNvPicPr/>
          <p:nvPr/>
        </p:nvPicPr>
        <p:blipFill>
          <a:blip r:embed="rId3"/>
          <a:stretch/>
        </p:blipFill>
        <p:spPr>
          <a:xfrm>
            <a:off x="190512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richardbowles.tripod.com/chemistry/o_atom.gif"/>
          <p:cNvPicPr/>
          <p:nvPr/>
        </p:nvPicPr>
        <p:blipFill>
          <a:blip r:embed="rId4"/>
          <a:stretch/>
        </p:blipFill>
        <p:spPr>
          <a:xfrm>
            <a:off x="251460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http://richardbowles.tripod.com/chemistry/o_atom.gif"/>
          <p:cNvPicPr/>
          <p:nvPr/>
        </p:nvPicPr>
        <p:blipFill>
          <a:blip r:embed="rId5"/>
          <a:stretch/>
        </p:blipFill>
        <p:spPr>
          <a:xfrm>
            <a:off x="297180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richardbowles.tripod.com/chemistry/al_atom.gif"/>
          <p:cNvPicPr/>
          <p:nvPr/>
        </p:nvPicPr>
        <p:blipFill>
          <a:blip r:embed="rId6"/>
          <a:stretch/>
        </p:blipFill>
        <p:spPr>
          <a:xfrm>
            <a:off x="556272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http://richardbowles.tripod.com/chemistry/al_atom.gif"/>
          <p:cNvPicPr/>
          <p:nvPr/>
        </p:nvPicPr>
        <p:blipFill>
          <a:blip r:embed="rId7"/>
          <a:stretch/>
        </p:blipFill>
        <p:spPr>
          <a:xfrm>
            <a:off x="608328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http://richardbowles.tripod.com/chemistry/o_atom.gif"/>
          <p:cNvPicPr/>
          <p:nvPr/>
        </p:nvPicPr>
        <p:blipFill>
          <a:blip r:embed="rId8"/>
          <a:stretch/>
        </p:blipFill>
        <p:spPr>
          <a:xfrm>
            <a:off x="678168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http://richardbowles.tripod.com/chemistry/o_atom.gif"/>
          <p:cNvPicPr/>
          <p:nvPr/>
        </p:nvPicPr>
        <p:blipFill>
          <a:blip r:embed="rId9"/>
          <a:stretch/>
        </p:blipFill>
        <p:spPr>
          <a:xfrm>
            <a:off x="7302600" y="406548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http://richardbowles.tripod.com/chemistry/o_atom.gif"/>
          <p:cNvPicPr/>
          <p:nvPr/>
        </p:nvPicPr>
        <p:blipFill>
          <a:blip r:embed="rId10"/>
          <a:stretch/>
        </p:blipFill>
        <p:spPr>
          <a:xfrm>
            <a:off x="7823160" y="4065480"/>
            <a:ext cx="411120" cy="354240"/>
          </a:xfrm>
          <a:prstGeom prst="rect">
            <a:avLst/>
          </a:prstGeom>
          <a:ln w="0">
            <a:noFill/>
          </a:ln>
        </p:spPr>
      </p:pic>
      <p:sp>
        <p:nvSpPr>
          <p:cNvPr id="106" name="Line 21"/>
          <p:cNvSpPr/>
          <p:nvPr/>
        </p:nvSpPr>
        <p:spPr>
          <a:xfrm flipH="1">
            <a:off x="2133360" y="316548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22"/>
          <p:cNvSpPr/>
          <p:nvPr/>
        </p:nvSpPr>
        <p:spPr>
          <a:xfrm flipH="1">
            <a:off x="3048120" y="3165480"/>
            <a:ext cx="12189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5410080" y="316548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6248520" y="3013200"/>
            <a:ext cx="12189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0" y="53352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the equation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tch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fferent atoms &amp; molecules on each side by different am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left: how many Al’s are needed to match the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3809880" y="56228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WordArt 31"/>
          <p:cNvSpPr txBox="1"/>
          <p:nvPr/>
        </p:nvSpPr>
        <p:spPr>
          <a:xfrm>
            <a:off x="533520" y="4572000"/>
            <a:ext cx="818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6c0a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... is the equation equal on both sides?</a:t>
            </a:r>
            <a:endParaRPr b="0" lang="en-US" sz="1800" spc="1" strike="noStrike">
              <a:ln w="0">
                <a:noFill/>
              </a:ln>
              <a:solidFill>
                <a:srgbClr val="e46c0a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90512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47920" y="914400"/>
            <a:ext cx="632448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 +        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      A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http://richardbowles.tripod.com/chemistry/4.gif"/>
          <p:cNvPicPr/>
          <p:nvPr/>
        </p:nvPicPr>
        <p:blipFill>
          <a:blip r:embed="rId1"/>
          <a:stretch/>
        </p:blipFill>
        <p:spPr>
          <a:xfrm>
            <a:off x="2556000" y="960480"/>
            <a:ext cx="388800" cy="77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://richardbowles.tripod.com/chemistry/3.gif"/>
          <p:cNvPicPr/>
          <p:nvPr/>
        </p:nvPicPr>
        <p:blipFill>
          <a:blip r:embed="rId2"/>
          <a:stretch/>
        </p:blipFill>
        <p:spPr>
          <a:xfrm>
            <a:off x="3924360" y="990720"/>
            <a:ext cx="342720" cy="777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richardbowles.tripod.com/chemistry/2.gif"/>
          <p:cNvPicPr/>
          <p:nvPr/>
        </p:nvPicPr>
        <p:blipFill>
          <a:blip r:embed="rId3"/>
          <a:stretch/>
        </p:blipFill>
        <p:spPr>
          <a:xfrm>
            <a:off x="5630760" y="990720"/>
            <a:ext cx="389160" cy="777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44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37"/>
          <p:cNvGrpSpPr/>
          <p:nvPr/>
        </p:nvGrpSpPr>
        <p:grpSpPr>
          <a:xfrm>
            <a:off x="1440" y="2666880"/>
            <a:ext cx="9142560" cy="1523880"/>
            <a:chOff x="1440" y="2666880"/>
            <a:chExt cx="9142560" cy="1523880"/>
          </a:xfrm>
        </p:grpSpPr>
        <p:sp>
          <p:nvSpPr>
            <p:cNvPr id="121" name="Rectangle 8"/>
            <p:cNvSpPr/>
            <p:nvPr/>
          </p:nvSpPr>
          <p:spPr>
            <a:xfrm>
              <a:off x="1440" y="266688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1440" y="2666880"/>
              <a:ext cx="5060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5062320" y="266688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5062320" y="2666880"/>
              <a:ext cx="113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195960" y="2666880"/>
              <a:ext cx="2948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1440" y="3093840"/>
              <a:ext cx="3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>
              <a:off x="1440" y="3093840"/>
              <a:ext cx="506088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62320" y="3093840"/>
              <a:ext cx="1133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31"/>
            <p:cNvSpPr/>
            <p:nvPr/>
          </p:nvSpPr>
          <p:spPr>
            <a:xfrm>
              <a:off x="6195960" y="3093840"/>
              <a:ext cx="29480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Picture 10" descr="http://richardbowles.tripod.com/chemistry/al_atom.gif"/>
          <p:cNvPicPr/>
          <p:nvPr/>
        </p:nvPicPr>
        <p:blipFill>
          <a:blip r:embed="rId4"/>
          <a:stretch/>
        </p:blipFill>
        <p:spPr>
          <a:xfrm>
            <a:off x="14292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richardbowles.tripod.com/chemistry/al_atom.gif"/>
          <p:cNvPicPr/>
          <p:nvPr/>
        </p:nvPicPr>
        <p:blipFill>
          <a:blip r:embed="rId5"/>
          <a:stretch/>
        </p:blipFill>
        <p:spPr>
          <a:xfrm>
            <a:off x="115560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http://richardbowles.tripod.com/chemistry/o_atom.gif"/>
          <p:cNvPicPr/>
          <p:nvPr/>
        </p:nvPicPr>
        <p:blipFill>
          <a:blip r:embed="rId6"/>
          <a:stretch/>
        </p:blipFill>
        <p:spPr>
          <a:xfrm>
            <a:off x="216864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http://richardbowles.tripod.com/chemistry/o_atom.gif"/>
          <p:cNvPicPr/>
          <p:nvPr/>
        </p:nvPicPr>
        <p:blipFill>
          <a:blip r:embed="rId7"/>
          <a:stretch/>
        </p:blipFill>
        <p:spPr>
          <a:xfrm>
            <a:off x="268920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http://richardbowles.tripod.com/chemistry/o_atom.gif"/>
          <p:cNvPicPr/>
          <p:nvPr/>
        </p:nvPicPr>
        <p:blipFill>
          <a:blip r:embed="rId8"/>
          <a:stretch/>
        </p:blipFill>
        <p:spPr>
          <a:xfrm>
            <a:off x="327672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http://richardbowles.tripod.com/chemistry/o_atom.gif"/>
          <p:cNvPicPr/>
          <p:nvPr/>
        </p:nvPicPr>
        <p:blipFill>
          <a:blip r:embed="rId9"/>
          <a:stretch/>
        </p:blipFill>
        <p:spPr>
          <a:xfrm>
            <a:off x="379728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http://richardbowles.tripod.com/chemistry/al_atom.gif"/>
          <p:cNvPicPr/>
          <p:nvPr/>
        </p:nvPicPr>
        <p:blipFill>
          <a:blip r:embed="rId10"/>
          <a:stretch/>
        </p:blipFill>
        <p:spPr>
          <a:xfrm>
            <a:off x="633744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http://richardbowles.tripod.com/chemistry/al_atom.gif"/>
          <p:cNvPicPr/>
          <p:nvPr/>
        </p:nvPicPr>
        <p:blipFill>
          <a:blip r:embed="rId11"/>
          <a:stretch/>
        </p:blipFill>
        <p:spPr>
          <a:xfrm>
            <a:off x="685800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http://richardbowles.tripod.com/chemistry/o_atom.gif"/>
          <p:cNvPicPr/>
          <p:nvPr/>
        </p:nvPicPr>
        <p:blipFill>
          <a:blip r:embed="rId12"/>
          <a:stretch/>
        </p:blipFill>
        <p:spPr>
          <a:xfrm>
            <a:off x="7378560" y="2712960"/>
            <a:ext cx="411480" cy="354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http://richardbowles.tripod.com/chemistry/o_atom.gif"/>
          <p:cNvPicPr/>
          <p:nvPr/>
        </p:nvPicPr>
        <p:blipFill>
          <a:blip r:embed="rId13"/>
          <a:stretch/>
        </p:blipFill>
        <p:spPr>
          <a:xfrm>
            <a:off x="789948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http://richardbowles.tripod.com/chemistry/o_atom.gif"/>
          <p:cNvPicPr/>
          <p:nvPr/>
        </p:nvPicPr>
        <p:blipFill>
          <a:blip r:embed="rId14"/>
          <a:stretch/>
        </p:blipFill>
        <p:spPr>
          <a:xfrm>
            <a:off x="8420040" y="2712960"/>
            <a:ext cx="411120" cy="35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http://richardbowles.tripod.com/chemistry/al_atom.gif"/>
          <p:cNvPicPr/>
          <p:nvPr/>
        </p:nvPicPr>
        <p:blipFill>
          <a:blip r:embed="rId15"/>
          <a:stretch/>
        </p:blipFill>
        <p:spPr>
          <a:xfrm>
            <a:off x="14292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7" descr="http://richardbowles.tripod.com/chemistry/al_atom.gif"/>
          <p:cNvPicPr/>
          <p:nvPr/>
        </p:nvPicPr>
        <p:blipFill>
          <a:blip r:embed="rId16"/>
          <a:stretch/>
        </p:blipFill>
        <p:spPr>
          <a:xfrm>
            <a:off x="115560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8" descr="http://richardbowles.tripod.com/chemistry/o_atom.gif"/>
          <p:cNvPicPr/>
          <p:nvPr/>
        </p:nvPicPr>
        <p:blipFill>
          <a:blip r:embed="rId17"/>
          <a:stretch/>
        </p:blipFill>
        <p:spPr>
          <a:xfrm>
            <a:off x="2168640" y="342900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http://richardbowles.tripod.com/chemistry/o_atom.gif"/>
          <p:cNvPicPr/>
          <p:nvPr/>
        </p:nvPicPr>
        <p:blipFill>
          <a:blip r:embed="rId18"/>
          <a:stretch/>
        </p:blipFill>
        <p:spPr>
          <a:xfrm>
            <a:off x="268920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http://richardbowles.tripod.com/chemistry/al_atom.gif"/>
          <p:cNvPicPr/>
          <p:nvPr/>
        </p:nvPicPr>
        <p:blipFill>
          <a:blip r:embed="rId19"/>
          <a:stretch/>
        </p:blipFill>
        <p:spPr>
          <a:xfrm>
            <a:off x="633744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http://richardbowles.tripod.com/chemistry/al_atom.gif"/>
          <p:cNvPicPr/>
          <p:nvPr/>
        </p:nvPicPr>
        <p:blipFill>
          <a:blip r:embed="rId20"/>
          <a:stretch/>
        </p:blipFill>
        <p:spPr>
          <a:xfrm>
            <a:off x="685800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http://richardbowles.tripod.com/chemistry/o_atom.gif"/>
          <p:cNvPicPr/>
          <p:nvPr/>
        </p:nvPicPr>
        <p:blipFill>
          <a:blip r:embed="rId21"/>
          <a:stretch/>
        </p:blipFill>
        <p:spPr>
          <a:xfrm>
            <a:off x="7378560" y="3475080"/>
            <a:ext cx="411480" cy="35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5" descr="http://richardbowles.tripod.com/chemistry/o_atom.gif"/>
          <p:cNvPicPr/>
          <p:nvPr/>
        </p:nvPicPr>
        <p:blipFill>
          <a:blip r:embed="rId22"/>
          <a:stretch/>
        </p:blipFill>
        <p:spPr>
          <a:xfrm>
            <a:off x="7899480" y="347508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6" descr="http://richardbowles.tripod.com/chemistry/o_atom.gif"/>
          <p:cNvPicPr/>
          <p:nvPr/>
        </p:nvPicPr>
        <p:blipFill>
          <a:blip r:embed="rId23"/>
          <a:stretch/>
        </p:blipFill>
        <p:spPr>
          <a:xfrm>
            <a:off x="8420040" y="3475080"/>
            <a:ext cx="411120" cy="353880"/>
          </a:xfrm>
          <a:prstGeom prst="rect">
            <a:avLst/>
          </a:prstGeom>
          <a:ln w="0">
            <a:noFill/>
          </a:ln>
        </p:spPr>
      </p:pic>
      <p:sp>
        <p:nvSpPr>
          <p:cNvPr id="150" name="Line 38"/>
          <p:cNvSpPr/>
          <p:nvPr/>
        </p:nvSpPr>
        <p:spPr>
          <a:xfrm flipH="1">
            <a:off x="837720" y="16765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39"/>
          <p:cNvSpPr/>
          <p:nvPr/>
        </p:nvSpPr>
        <p:spPr>
          <a:xfrm flipH="1">
            <a:off x="3352680" y="167652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40"/>
          <p:cNvSpPr/>
          <p:nvPr/>
        </p:nvSpPr>
        <p:spPr>
          <a:xfrm>
            <a:off x="6172200" y="16765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41"/>
          <p:cNvSpPr/>
          <p:nvPr/>
        </p:nvSpPr>
        <p:spPr>
          <a:xfrm>
            <a:off x="7010280" y="16765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457200" y="5272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AL       3x2=6 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5410080" y="5272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x2=4AL    3x2=6 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44"/>
          <p:cNvSpPr/>
          <p:nvPr/>
        </p:nvSpPr>
        <p:spPr>
          <a:xfrm rot="5933400">
            <a:off x="189720" y="4304880"/>
            <a:ext cx="1219320" cy="38124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45"/>
          <p:cNvSpPr/>
          <p:nvPr/>
        </p:nvSpPr>
        <p:spPr>
          <a:xfrm rot="5933400">
            <a:off x="2692080" y="422748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46"/>
          <p:cNvSpPr/>
          <p:nvPr/>
        </p:nvSpPr>
        <p:spPr>
          <a:xfrm rot="5933400">
            <a:off x="5676480" y="4381200"/>
            <a:ext cx="1218960" cy="38124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47"/>
          <p:cNvSpPr/>
          <p:nvPr/>
        </p:nvSpPr>
        <p:spPr>
          <a:xfrm rot="5933400">
            <a:off x="7353000" y="4457520"/>
            <a:ext cx="1219320" cy="3808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WordArt 48"/>
          <p:cNvSpPr txBox="1"/>
          <p:nvPr/>
        </p:nvSpPr>
        <p:spPr>
          <a:xfrm>
            <a:off x="657360" y="6095880"/>
            <a:ext cx="818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 it's balanced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90512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447920" y="914400"/>
            <a:ext cx="632448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 +        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      A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http://richardbowles.tripod.com/chemistry/4.gif"/>
          <p:cNvPicPr/>
          <p:nvPr/>
        </p:nvPicPr>
        <p:blipFill>
          <a:blip r:embed="rId1"/>
          <a:stretch/>
        </p:blipFill>
        <p:spPr>
          <a:xfrm>
            <a:off x="2556000" y="960480"/>
            <a:ext cx="388800" cy="77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richardbowles.tripod.com/chemistry/3.gif"/>
          <p:cNvPicPr/>
          <p:nvPr/>
        </p:nvPicPr>
        <p:blipFill>
          <a:blip r:embed="rId2"/>
          <a:stretch/>
        </p:blipFill>
        <p:spPr>
          <a:xfrm>
            <a:off x="3924360" y="990720"/>
            <a:ext cx="342720" cy="77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richardbowles.tripod.com/chemistry/2.gif"/>
          <p:cNvPicPr/>
          <p:nvPr/>
        </p:nvPicPr>
        <p:blipFill>
          <a:blip r:embed="rId3"/>
          <a:stretch/>
        </p:blipFill>
        <p:spPr>
          <a:xfrm>
            <a:off x="5630760" y="990720"/>
            <a:ext cx="389160" cy="777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144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37"/>
          <p:cNvGrpSpPr/>
          <p:nvPr/>
        </p:nvGrpSpPr>
        <p:grpSpPr>
          <a:xfrm>
            <a:off x="1440" y="2666880"/>
            <a:ext cx="9142560" cy="1523880"/>
            <a:chOff x="1440" y="2666880"/>
            <a:chExt cx="9142560" cy="1523880"/>
          </a:xfrm>
        </p:grpSpPr>
        <p:sp>
          <p:nvSpPr>
            <p:cNvPr id="168" name="Rectangle 8"/>
            <p:cNvSpPr/>
            <p:nvPr/>
          </p:nvSpPr>
          <p:spPr>
            <a:xfrm>
              <a:off x="1440" y="266688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1440" y="2666880"/>
              <a:ext cx="5060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5062320" y="266688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5062320" y="2666880"/>
              <a:ext cx="113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6195960" y="2666880"/>
              <a:ext cx="2948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1440" y="3093840"/>
              <a:ext cx="3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1440" y="3093840"/>
              <a:ext cx="506088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   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>
              <a:off x="5062320" y="3093840"/>
              <a:ext cx="1133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6195960" y="3093840"/>
              <a:ext cx="29480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  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       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WordArt 48"/>
          <p:cNvSpPr txBox="1"/>
          <p:nvPr/>
        </p:nvSpPr>
        <p:spPr>
          <a:xfrm>
            <a:off x="228600" y="2209680"/>
            <a:ext cx="8686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isha"/>
              </a:rPr>
              <a:t>Sometimes you will need to keep working 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isha"/>
              <a:ea typeface="Gish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isha"/>
              </a:rPr>
              <a:t>the numbers in multiples until they match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isha"/>
              <a:ea typeface="Gish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rcRect l="1517" t="1517" r="1732" b="15552"/>
          <a:stretch/>
        </p:blipFill>
        <p:spPr>
          <a:xfrm>
            <a:off x="3124080" y="1936800"/>
            <a:ext cx="2895840" cy="24829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6"/>
          <p:cNvSpPr txBox="1"/>
          <p:nvPr/>
        </p:nvSpPr>
        <p:spPr>
          <a:xfrm>
            <a:off x="1143000" y="1181160"/>
            <a:ext cx="6781680" cy="773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alancing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quations Practice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295280" y="131760"/>
            <a:ext cx="72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ACTICE:  Balancing Chemical Eq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959840" y="2362320"/>
            <a:ext cx="4809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CO + 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--&gt; ___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81280" y="4983120"/>
            <a:ext cx="7300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 + ___ Cu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--&gt; ___ Cu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Rectangle 7" descr=""/>
          <p:cNvPicPr/>
          <p:nvPr/>
        </p:nvPicPr>
        <p:blipFill>
          <a:blip r:embed="rId1"/>
          <a:stretch/>
        </p:blipFill>
        <p:spPr>
          <a:xfrm>
            <a:off x="4761000" y="2084400"/>
            <a:ext cx="1371600" cy="98748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8" descr=""/>
          <p:cNvPicPr/>
          <p:nvPr/>
        </p:nvPicPr>
        <p:blipFill>
          <a:blip r:embed="rId2"/>
          <a:stretch/>
        </p:blipFill>
        <p:spPr>
          <a:xfrm>
            <a:off x="1712880" y="2084400"/>
            <a:ext cx="1371600" cy="98748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10" descr=""/>
          <p:cNvPicPr/>
          <p:nvPr/>
        </p:nvPicPr>
        <p:blipFill>
          <a:blip r:embed="rId3"/>
          <a:stretch/>
        </p:blipFill>
        <p:spPr>
          <a:xfrm>
            <a:off x="1335240" y="4754520"/>
            <a:ext cx="1365120" cy="981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11" descr=""/>
          <p:cNvPicPr/>
          <p:nvPr/>
        </p:nvPicPr>
        <p:blipFill>
          <a:blip r:embed="rId4"/>
          <a:stretch/>
        </p:blipFill>
        <p:spPr>
          <a:xfrm>
            <a:off x="4230720" y="4743360"/>
            <a:ext cx="1365120" cy="987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2"/>
          <p:cNvSpPr/>
          <p:nvPr/>
        </p:nvSpPr>
        <p:spPr>
          <a:xfrm>
            <a:off x="2095560" y="1295280"/>
            <a:ext cx="4809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CO + 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--&gt; ___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805320" y="3886200"/>
            <a:ext cx="7300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 + ___ Cu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--&gt; ___ Cu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33:29Z</dcterms:created>
  <dc:creator>Laurie</dc:creator>
  <dc:description/>
  <dc:language>en-US</dc:language>
  <cp:lastModifiedBy>Laurie</cp:lastModifiedBy>
  <dcterms:modified xsi:type="dcterms:W3CDTF">2009-06-29T21:37:22Z</dcterms:modified>
  <cp:revision>1</cp:revision>
  <dc:subject/>
  <dc:title>Slide 1</dc:title>
</cp:coreProperties>
</file>